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CC7-D3FF-4673-80FA-6856AAD8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F86-EE32-4943-B45F-53EAFD3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21B-D63C-49E0-AFC3-7245B3F1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9EB-BC0F-4724-BBC6-34E99617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2A5-B2BF-4332-9C4D-BCCEABBC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D46-E1F8-4651-B4C5-93DCE7B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764-05FE-49F2-86CC-0C61B87A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365-D63D-4338-B3A6-95A5B8D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20E-844A-41F0-A090-E9BEFCB6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168-5490-4660-94F0-B8C1082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3F8-30C0-4499-ADA0-8A65D12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24B-1D3A-4730-A815-55E0D75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C650-A322-4838-B53E-A80671D27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270584757_screenhunter_01-apr.-07-00.10.gif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4513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Цел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. Сформировать понятие о витами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. Сформировать биологическую роль витаминов в жизни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457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3cddd"/>
                </a:solidFill>
                <a:latin typeface="Calibri"/>
              </a:rPr>
              <a:t>Задач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1. Сформировать понятие о  витаминах , как о биологически активных веществ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2.  Развивать познавательный интерес к изучению биологических вопросов, логическому мышлению, умения обосновывать свою точку зрения, анализировать, делать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3. Научить применять теоретические знания на практике, сформировать понимание сложности влияния различных биологически активных веществ, в том числе и витаминов , на организм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pravitelstvo_ustanovit_predelnyj_uroven_cen_na_lekarstva_clause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же такое витамины и что они из себя представляю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6688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тамины- это органические вещества, содержащиеся в пище, необходимые для образования ферментов и других биологически активных веще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Люди потребляют их в незначительном количестве, но без витаминов невозможна нормальная работа органов нашего тела. Витамины активно влияют на обмен веществ, рост и развитие организма, его сопротивляемость к заболеван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935.jpg"/>
          <p:cNvPicPr/>
          <p:nvPr/>
        </p:nvPicPr>
        <p:blipFill>
          <a:blip r:embed="rId1"/>
          <a:stretch/>
        </p:blipFill>
        <p:spPr>
          <a:xfrm>
            <a:off x="1403280" y="1386000"/>
            <a:ext cx="6588360" cy="547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уществует большое разнообразие витами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т нехватки витаминов порождаются различные заболев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eye_kataract.jpg"/>
          <p:cNvPicPr/>
          <p:nvPr/>
        </p:nvPicPr>
        <p:blipFill>
          <a:blip r:embed="rId1"/>
          <a:stretch/>
        </p:blipFill>
        <p:spPr>
          <a:xfrm>
            <a:off x="179280" y="1773360"/>
            <a:ext cx="2581560" cy="2097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3492360"/>
            <a:ext cx="4114800" cy="150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wein-2-5.jpeg"/>
          <p:cNvPicPr/>
          <p:nvPr/>
        </p:nvPicPr>
        <p:blipFill>
          <a:blip r:embed="rId3"/>
          <a:stretch/>
        </p:blipFill>
        <p:spPr>
          <a:xfrm>
            <a:off x="6012000" y="2060640"/>
            <a:ext cx="189864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867280" y="357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цин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gigantism.jpg"/>
          <p:cNvPicPr/>
          <p:nvPr/>
        </p:nvPicPr>
        <p:blipFill>
          <a:blip r:embed="rId4"/>
          <a:stretch/>
        </p:blipFill>
        <p:spPr>
          <a:xfrm>
            <a:off x="3564000" y="2276640"/>
            <a:ext cx="2298600" cy="3816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3564000" y="61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игантиз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итамины  не вырабатываются в организме человека, а создаются растениями и животными. Полное отсутствие каких-то витаминов в организме называют авитаминозом. Болезни, возникающие при недостатке витаминов в пище, называют гиповинозами, а от избытка витаминов – гипервитамино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7:36:46Z</dcterms:created>
  <dc:creator>Николай</dc:creator>
  <dc:description/>
  <dc:language>en-US</dc:language>
  <cp:lastModifiedBy>08458</cp:lastModifiedBy>
  <dcterms:modified xsi:type="dcterms:W3CDTF">2011-05-11T07:19:31Z</dcterms:modified>
  <cp:revision>8</cp:revision>
  <dc:subject/>
  <dc:title>Слайд 1</dc:title>
</cp:coreProperties>
</file>